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6E03-ED0B-4F8F-B20C-A6DACFE0B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77BC-FCB4-4F7F-96EB-538A6CC83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F2E9-4908-4E13-B7B2-1149BCF1A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36C-89C3-4EA9-B1FE-9E459292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1770-3861-40C7-94FB-E7D3C5B1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E01-85DE-42CF-BA7A-53A7C174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E59-9E42-4A85-A70E-FF694683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25E-B397-4265-A1F4-3FA4A5C3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B0C3-74ED-488E-A48B-3E2E014B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FBF-C0E5-41C6-A330-C66F125A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F78-BE28-4AB0-B98D-FB65C08F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667-1DCC-4E31-ADD6-67FA1434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C1AB-7FBE-4CD1-8BD4-B35ACCA6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752-AD18-4F7D-91FC-2C888BE4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786-2908-4758-B9FC-0C02C47E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0DC2-0327-4B80-922A-9F5BB9F9B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FAMILLE</a:t>
            </a:r>
            <a:br>
              <a:rPr sz="4400"/>
            </a:br>
            <a:r>
              <a:rPr b="1" lang="es-ES_tradnl" sz="4400" spc="-1" strike="noStrike" baseline="-25000">
                <a:solidFill>
                  <a:srgbClr val="0087ff"/>
                </a:solidFill>
                <a:latin typeface="Georgia"/>
              </a:rPr>
              <a:t>ARBRE GENEALOGIQUE DE LA FAMILLE SIMP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2057400" y="2193840"/>
            <a:ext cx="472428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par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ge est la femme (la épouse) de H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r est le mari (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poux) de M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sont les parents de Bart, Lisa et Mag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sont 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le et la tante de 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4768920" y="1981080"/>
            <a:ext cx="356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fils   --  le petit-f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 est le fils de Marge et H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 est le petit-fils de Abe et Mona Simp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 est le petit-fils de Clancy et Jack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685800" y="2571840"/>
            <a:ext cx="380988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f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a est la fille de  Marge et H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a est la petite-fille de Mona et A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a est la petite-fille de Clancy et Jackie au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1177920" y="1981080"/>
            <a:ext cx="2824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sœ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gie est la sœur de Bart et de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a est la sœur de Maggie et de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gie et Lisa sont des sœ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3809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fre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 est le frere de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 est le frere de Mag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, Maggie y Lisa son frere et sœ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685800" y="2355840"/>
            <a:ext cx="380988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b est 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le de B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b es 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le de Maggie et de L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b est le frere de H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b 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s de fe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b est le fils de Abe et M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ta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y est la tante de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y est la tante de Maggie et de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y est la sœur de M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y 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s 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f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ty 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s de m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455840" y="1981080"/>
            <a:ext cx="2268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ta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ma est la tante de B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ma est la tante de Mag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ma est la tante de Li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ma est la sœur de M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ma est la mere de 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cou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g est la cousine de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g est la cousine de Mag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g est la cousine de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g, Maggie et Lisa sont des cous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cous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 Simpson est le cousin de 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pauvre, Bart a des sœurs et une cousine, mais il 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s de cous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685800" y="3460680"/>
            <a:ext cx="266688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grand-m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e 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lle Mona Simp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neve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 est le neveu de Pat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 est le neveu de Sel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 est le neveu de Her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4648320" y="2813040"/>
            <a:ext cx="38098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nie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gie est la niece de Pat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gie est la niece de Sel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urquoi?  Parce que Selma et Patty sont les sœurs de Marge, la mere de Maggi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tretch/>
        </p:blipFill>
        <p:spPr>
          <a:xfrm>
            <a:off x="685800" y="2981160"/>
            <a:ext cx="38098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béb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 est le bébé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gie est le béb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g est un bébé au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685800" y="2657520"/>
            <a:ext cx="34290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petits-enf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 sont les petits-enfants de Clancy et Jackie Bouvi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t, Lisa, Maggie et Ling sont les petits-enfants de Clancy et Jack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68580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chien et le chat de la fami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e est le chien de la fami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famille a un chien au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chat 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lle Snowb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685800" y="2668680"/>
            <a:ext cx="38098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famille Simp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69339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 une assez petite fam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 une tres étrange famil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286000" y="3127320"/>
            <a:ext cx="38862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grand-pe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lle Abe Simp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444680" y="1981080"/>
            <a:ext cx="2290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grand-m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e 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lle Jackie Bouv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grand-p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lle Clancy Bouv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grands-par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e et Mona sont les grands-parents de B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e est le mari de M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a est la femme de A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e et Mona sont les parents de H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4648320" y="2611440"/>
            <a:ext cx="38098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grands-par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ncy et Jackie Bouvier sont les grands-parents de Bart au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ncy est le mari de Jack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ie est la femme de Cla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ncy et Jackie sont les parents de M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3276360" cy="26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p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lle Homer Simp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1312920" y="1981080"/>
            <a:ext cx="2555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m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e 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lle Marge Simp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1467000" y="1981080"/>
            <a:ext cx="224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6:08:12Z</dcterms:created>
  <dc:creator>David Chapman</dc:creator>
  <dc:description/>
  <dc:language>en-US</dc:language>
  <cp:lastModifiedBy>John Chapman</cp:lastModifiedBy>
  <dcterms:modified xsi:type="dcterms:W3CDTF">2011-04-12T14:39:43Z</dcterms:modified>
  <cp:revision>6</cp:revision>
  <dc:subject/>
  <dc:title>LA FAMILIA ARBOL GENEALOGICO DE LA FAMILIA SIMPSON</dc:title>
</cp:coreProperties>
</file>